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44B-E68C-4FCD-8C1C-E10DC28C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123-584D-4D34-8B37-9F6C7753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245-A3AA-49E1-BB75-7E7FA1F0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E3C-B816-4497-95BC-3EC7AEDD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AB1C-47A9-453D-B87A-8B468423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28DC-CBC3-413F-8F12-D2EEF60A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5A21-93AA-476C-A4E8-996BC5A5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7627-5EC9-4777-866F-E405668A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4AF8-E80E-4FCF-8886-C893A375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C3E0-4B6B-49BA-8CB3-EF625BF4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7950-5C69-4C4D-B805-86E1646C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1C6-70DF-4A80-A58D-C448B02D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A3D8-70EA-4E40-A74E-00CB7DCE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BB82-503D-4F8D-8A7E-BCCC5EE7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C3FD-8958-4EC5-A465-E1D2ED46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0D37-A20A-4967-821E-1E39C8B6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B65C-9E33-4CC8-B6E5-DE4FE4E0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CAB-F949-42BC-9866-76673435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FC9-B460-4C9B-AD6C-F0401B24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260-93DE-41B9-8996-40312E10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A08-7E44-466B-A097-FF646AC9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F4E-BDEF-4C86-82B4-E32F1A39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2D8-7F73-4D76-A2B6-B318A366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D20-6163-4DA7-966E-8AB2C8D7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124B-872F-415B-AD85-9BBA2A23C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533B-ADC6-40DE-B83A-6D5F357B1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elcome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areer and Technical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dvisory Committe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reer Clusters Framewo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rograms of Stud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9000" y="1295280"/>
            <a:ext cx="51055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ull range of activities, documents and process that make up a seamless education program from school to school within a given Career Cluster or Career Path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es a three-part curriculum framework extending from secondary to two-year postsecondary to four-year postsecondary edu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463760"/>
            <a:ext cx="1764000" cy="398520"/>
          </a:xfrm>
          <a:prstGeom prst="roundRect">
            <a:avLst>
              <a:gd name="adj" fmla="val 3809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Career P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597040"/>
            <a:ext cx="1764000" cy="398520"/>
          </a:xfrm>
          <a:prstGeom prst="roundRect">
            <a:avLst>
              <a:gd name="adj" fmla="val 3809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Career Clu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732120"/>
            <a:ext cx="1764000" cy="398520"/>
          </a:xfrm>
          <a:prstGeom prst="roundRect">
            <a:avLst>
              <a:gd name="adj" fmla="val 3809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Career Path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867200"/>
            <a:ext cx="1764000" cy="398520"/>
          </a:xfrm>
          <a:prstGeom prst="roundRect">
            <a:avLst>
              <a:gd name="adj" fmla="val 38097"/>
            </a:avLst>
          </a:prstGeom>
          <a:solidFill>
            <a:srgbClr val="ffff00">
              <a:alpha val="50000"/>
            </a:srgbClr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Programs of Stu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6002280"/>
            <a:ext cx="1764000" cy="398520"/>
          </a:xfrm>
          <a:prstGeom prst="roundRect">
            <a:avLst>
              <a:gd name="adj" fmla="val 38097"/>
            </a:avLst>
          </a:prstGeom>
          <a:solidFill>
            <a:srgbClr val="993300">
              <a:alpha val="50000"/>
            </a:srgbClr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Personal Plan of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2" idx="2"/>
            <a:endCxn id="143" idx="0"/>
          </p:cNvCxnSpPr>
          <p:nvPr/>
        </p:nvCxnSpPr>
        <p:spPr>
          <a:xfrm>
            <a:off x="1263240" y="1887120"/>
            <a:ext cx="1080" cy="685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3" idx="2"/>
            <a:endCxn id="144" idx="0"/>
          </p:cNvCxnSpPr>
          <p:nvPr/>
        </p:nvCxnSpPr>
        <p:spPr>
          <a:xfrm>
            <a:off x="1263240" y="3020760"/>
            <a:ext cx="1080" cy="6865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2"/>
            <a:endCxn id="145" idx="0"/>
          </p:cNvCxnSpPr>
          <p:nvPr/>
        </p:nvCxnSpPr>
        <p:spPr>
          <a:xfrm>
            <a:off x="1263240" y="4155840"/>
            <a:ext cx="1080" cy="6865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2"/>
            <a:endCxn id="146" idx="0"/>
          </p:cNvCxnSpPr>
          <p:nvPr/>
        </p:nvCxnSpPr>
        <p:spPr>
          <a:xfrm>
            <a:off x="1263240" y="5290920"/>
            <a:ext cx="1080" cy="6865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rograms of Stu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ec94"/>
                </a:solidFill>
                <a:latin typeface="Times New Roman"/>
              </a:rPr>
              <a:t>Refer to handou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nefits for Educato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engaged lear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ader community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re for true integrated teaching and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d achievement for all stu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s teaching fun by applying all knowledge – both academic and techn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nefits for Employ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a pipeline of 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force is well qualified and able to adapt to the changing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ingful engagement with the school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mework for cross-training or re-tooling the work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nefits for Par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informed op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er transitions among learner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savings – integrated credit and articulation agre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focused and engaged stu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nefits for Learn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va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able technical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ies to explore multiple care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ed, seamless trans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engag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ext Meet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December 11, 2008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Tefft Auditoriu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3:45-5:0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o are w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eer and Technical Education i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keting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mily and Consumer Sciences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nology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re we about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6000" spc="-1" strike="noStrike">
                <a:solidFill>
                  <a:srgbClr val="ffffff"/>
                </a:solidFill>
                <a:latin typeface="Times New Roman"/>
              </a:rPr>
              <a:t>Developing an educated, prepared, adaptable and competitive workforce.</a:t>
            </a:r>
            <a:r>
              <a:rPr b="0" lang="e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52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ctr" pos="21160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n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ow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523880"/>
          <a:ext cx="7848720" cy="3611520"/>
        </p:xfrm>
        <a:graphic>
          <a:graphicData uri="http://schemas.openxmlformats.org/drawingml/2006/table">
            <a:tbl>
              <a:tblPr/>
              <a:tblGrid>
                <a:gridCol w="3889440"/>
                <a:gridCol w="3959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TIONAL EDU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EER EDU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m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a Few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b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All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e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to 7 “Program Areas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 Clusters – 81 Pathw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Lieu of Academi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igns and Supports Academi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 School Focu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 School and College Partnershi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y Career Education?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ports national and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gislative and educational initiatives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l D. Perkins Career and Technical Education Improvement Act of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hild Left Beh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ouri METS Al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Lead The Way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ouri Workplace Readiness Initi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. . and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y Career Educatio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ur economy is changing t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y-dr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employer de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What Does This Mean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w vision for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ignment of Career Education to education reform, workforce development and economic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ssouri’s Vi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95560" y="1980720"/>
            <a:ext cx="32400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52720" y="1447920"/>
            <a:ext cx="3371760" cy="449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ur Recommenda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School Career Guidance and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Rigor, Relevance and Relationships in School Curric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Student Trans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High Quality Professional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8:57:45Z</dcterms:created>
  <dc:creator>rswills</dc:creator>
  <dc:description/>
  <dc:language>en-US</dc:language>
  <cp:lastModifiedBy>rswills</cp:lastModifiedBy>
  <dcterms:modified xsi:type="dcterms:W3CDTF">2008-09-10T18:54:28Z</dcterms:modified>
  <cp:revision>5</cp:revision>
  <dc:subject/>
  <dc:title>Welcome  Career and Technical  Advisory Committee</dc:title>
</cp:coreProperties>
</file>